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2F0-9C93-43E1-9F27-7F1226AD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57B-289F-400A-927E-E74F087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68B-6ABF-4FF0-847A-3B45FFA1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724-35AA-4925-822A-8C491CD6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ACE2-B898-44A2-A243-F90F6D88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96D7-DD41-433C-8BAA-33F5F56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2E4D-F2D2-4890-A7C2-B8DB837B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3143-0E1F-4714-B948-09D24F08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ABEF-B76B-49A8-9955-95AF13B7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559-B8ED-49B2-A87B-5A52333A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CEB9-7982-46EE-81BF-D7E26D1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1A8-B45F-4109-8BCC-55BCCC4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0C1A-0A71-4BA5-93C5-C1409E2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2AEF-DDD9-4ACC-AD3C-937E838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80B-8FE6-40E6-9C20-504FD41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29F4-1B18-4E1D-A1D9-2945CDAA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57CE-A3E4-4BBE-A0BC-4DB12AE0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81B-F887-484D-B830-D812DE33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A8A-59CB-4A50-8B05-1C7BA8A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846-91C5-441C-A165-0664445B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EFB-10E4-4F78-8B0A-36D45A7D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1FD-8D15-479E-A983-B56AB3A8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DE8-BA6A-4FB1-804B-E6D19AA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DAC-B3C6-4CDC-ABB2-701FEAF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DA6-902B-4AB9-A173-1963111AB41A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7F56-1415-479A-8630-9BF4F366C214}" type="slidenum">
              <a:rPr b="0" lang="en-US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Developing Collaboration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6140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An online educator’s guid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deas for Engaging Activiti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Discuss relevant experiences in personal introduction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ompleting a sentenc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Provide a Hoo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eirdest Gift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Best Vacation Spot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72b"/>
                </a:solidFill>
                <a:latin typeface="Arial"/>
              </a:rPr>
              <a:t>(Bender, 2003, p. 48-53)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Ideas for Engaging Activiti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lay a gam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Ask: What do you hope to learn from the course?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hort descriptive stories about themselve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tudents interview and introduce each other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(Bender, 2003, p. 48-53)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Reference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Bender, T. (2003). </a:t>
            </a:r>
            <a:r>
              <a:rPr b="0" i="1" lang="en-US" sz="3200" spc="-1" strike="noStrike">
                <a:solidFill>
                  <a:srgbClr val="58572b"/>
                </a:solidFill>
                <a:latin typeface="Arial"/>
              </a:rPr>
              <a:t>Discussion-based online teaching to enhance student learning</a:t>
            </a: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. Sterling, VI: Stylus Publishing, LLC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Palloff, R.M., &amp; Pratt, K. (2005). </a:t>
            </a:r>
            <a:r>
              <a:rPr b="0" i="1" lang="en-US" sz="3200" spc="-1" strike="noStrike">
                <a:solidFill>
                  <a:srgbClr val="58572b"/>
                </a:solidFill>
                <a:latin typeface="Arial"/>
              </a:rPr>
              <a:t>Collaborating online</a:t>
            </a: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. San Francisco, CA: Jossey-Bass.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Effective collaboration may be one of the most challenging tasks to develop 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Must include: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Reflection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Setting the Stag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ffective collaboration must begin at the onset of the cours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Begin the course with a simple introductory activity to engage the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learners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nsure students are familiar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with the setup and </a:t>
            </a:r>
            <a:br>
              <a:rPr sz="2800"/>
            </a:b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functionality of the course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3467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Setting the Stage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Have the students review the course material and ask and answer one question on a discussion thread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Ensure your expectations and course material are clear prior to students beginning coursewor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535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reating the Environmen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Determine and identify the participation level and expectations for all synchronous or asynchronous activities at the onset of the course 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If possible, have the class help develop “Rules for Engagement”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Modeling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e instructor must demonstrate good collaboration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Recommendation:  Have the instructor complete the asynchronous activity and post to the discussion board first…allow students to commen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Learners should post and respond to post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Guide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better to give some brief indication of what’s on your mind than to have students obsessed with whether your silence means disappointment or satisfaction with their efforts” 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72b"/>
                </a:solidFill>
                <a:latin typeface="Arial"/>
              </a:rPr>
              <a:t>(as cited in Palloff &amp; Pratt, 2005, p. 23)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he instructor must respond effectively to posts and provide useful feedback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Model this and encourage students to follow sui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Evaluating the Pro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666520"/>
            <a:ext cx="4876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as the learning objective met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hat was the learner’s attitude about the activity after having completed it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What was the level of active participation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How can this be improved next time?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30859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Tips for Success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Model the engagement you want the learners to demonstrate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Understand that technical difficulties are bound to occur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Learner feedback is vital to future succes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uccess begins the first day of class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01:49:56Z</dcterms:created>
  <dc:creator>Franko Jester</dc:creator>
  <dc:description/>
  <dc:language>en-US</dc:language>
  <cp:lastModifiedBy>Franko Jester</cp:lastModifiedBy>
  <dcterms:modified xsi:type="dcterms:W3CDTF">2011-04-22T05:08:20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4;#PowerPoint 2003;#67;#PowerPoint - Design Templt 12;#79;#Template 12;#66;#PowerPoint - Design Templt 2003;#65;#Microsoft Office PowerPoint 2007;#184;#Office 2000;#182;#Office XP</vt:lpwstr>
  </property>
  <property fmtid="{D5CDD505-2E9C-101B-9397-08002B2CF9AE}" pid="6" name="AssetId">
    <vt:lpwstr>TS001072157</vt:lpwstr>
  </property>
  <property fmtid="{D5CDD505-2E9C-101B-9397-08002B2CF9AE}" pid="7" name="AssetType">
    <vt:lpwstr>TP</vt:lpwstr>
  </property>
  <property fmtid="{D5CDD505-2E9C-101B-9397-08002B2CF9AE}" pid="8" name="AuthoringAssetId">
    <vt:lpwstr>TP001072157</vt:lpwstr>
  </property>
  <property fmtid="{D5CDD505-2E9C-101B-9397-08002B2CF9AE}" pid="9" name="BugNumber">
    <vt:lpwstr>460420L</vt:lpwstr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C3831ACA17D8814887A164412888521E</vt:lpwstr>
  </property>
  <property fmtid="{D5CDD505-2E9C-101B-9397-08002B2CF9AE}" pid="12" name="IsDeleted">
    <vt:lpwstr>0</vt:lpwstr>
  </property>
  <property fmtid="{D5CDD505-2E9C-101B-9397-08002B2CF9AE}" pid="13" name="IsSearchable">
    <vt:lpwstr>0</vt:lpwstr>
  </property>
  <property fmtid="{D5CDD505-2E9C-101B-9397-08002B2CF9AE}" pid="14" name="Markets">
    <vt:lpwstr/>
  </property>
  <property fmtid="{D5CDD505-2E9C-101B-9397-08002B2CF9AE}" pid="15" name="Milestone">
    <vt:lpwstr>Continuous</vt:lpwstr>
  </property>
  <property fmtid="{D5CDD505-2E9C-101B-9397-08002B2CF9AE}" pid="16" name="NumericId">
    <vt:lpwstr>-1.00000000000000</vt:lpwstr>
  </property>
  <property fmtid="{D5CDD505-2E9C-101B-9397-08002B2CF9AE}" pid="17" name="OpenTemplate">
    <vt:lpwstr>1</vt:lpwstr>
  </property>
  <property fmtid="{D5CDD505-2E9C-101B-9397-08002B2CF9AE}" pid="18" name="PrimaryImageGen">
    <vt:lpwstr>1</vt:lpwstr>
  </property>
  <property fmtid="{D5CDD505-2E9C-101B-9397-08002B2CF9AE}" pid="19" name="Provider">
    <vt:lpwstr>EY006220130</vt:lpwstr>
  </property>
  <property fmtid="{D5CDD505-2E9C-101B-9397-08002B2CF9AE}" pid="20" name="PublishStatusLookup">
    <vt:lpwstr>258233</vt:lpwstr>
  </property>
  <property fmtid="{D5CDD505-2E9C-101B-9397-08002B2CF9AE}" pid="21" name="PublishTargets">
    <vt:lpwstr>OfficeOnline</vt:lpwstr>
  </property>
  <property fmtid="{D5CDD505-2E9C-101B-9397-08002B2CF9AE}" pid="22" name="ShowIn">
    <vt:lpwstr>Show everywhere</vt:lpwstr>
  </property>
  <property fmtid="{D5CDD505-2E9C-101B-9397-08002B2CF9AE}" pid="23" name="SourceTitle">
    <vt:lpwstr>Technology at work design template</vt:lpwstr>
  </property>
  <property fmtid="{D5CDD505-2E9C-101B-9397-08002B2CF9AE}" pid="24" name="TPAppVersion">
    <vt:lpwstr>11</vt:lpwstr>
  </property>
  <property fmtid="{D5CDD505-2E9C-101B-9397-08002B2CF9AE}" pid="25" name="TPApplication">
    <vt:lpwstr>PowerPoint</vt:lpwstr>
  </property>
  <property fmtid="{D5CDD505-2E9C-101B-9397-08002B2CF9AE}" pid="26" name="TPClientViewer">
    <vt:lpwstr>Microsoft Office PowerPoint</vt:lpwstr>
  </property>
  <property fmtid="{D5CDD505-2E9C-101B-9397-08002B2CF9AE}" pid="27" name="TPCommandLine">
    <vt:lpwstr>{PP} {FilePath}</vt:lpwstr>
  </property>
  <property fmtid="{D5CDD505-2E9C-101B-9397-08002B2CF9AE}" pid="28" name="TPComponent">
    <vt:lpwstr>PPTFiles</vt:lpwstr>
  </property>
  <property fmtid="{D5CDD505-2E9C-101B-9397-08002B2CF9AE}" pid="29" name="TPFriendlyName">
    <vt:lpwstr>Technology at work design template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>Template</vt:lpwstr>
  </property>
  <property fmtid="{D5CDD505-2E9C-101B-9397-08002B2CF9AE}" pid="33" name="TPNamespace">
    <vt:lpwstr>POWERPNT</vt:lpwstr>
  </property>
  <property fmtid="{D5CDD505-2E9C-101B-9397-08002B2CF9AE}" pid="34" name="TemplateStatus">
    <vt:lpwstr>Complete</vt:lpwstr>
  </property>
  <property fmtid="{D5CDD505-2E9C-101B-9397-08002B2CF9AE}" pid="35" name="TrustLevel">
    <vt:lpwstr>Microsoft Managed Content</vt:lpwstr>
  </property>
  <property fmtid="{D5CDD505-2E9C-101B-9397-08002B2CF9AE}" pid="36" name="UACurrentWords">
    <vt:lpwstr>0</vt:lpwstr>
  </property>
  <property fmtid="{D5CDD505-2E9C-101B-9397-08002B2CF9AE}" pid="37" name="UALocRecommendation">
    <vt:lpwstr>Localize</vt:lpwstr>
  </property>
  <property fmtid="{D5CDD505-2E9C-101B-9397-08002B2CF9AE}" pid="38" name="UANotes">
    <vt:lpwstr>429034L. June 2003 retrofit. Premium Exception Oct. 2003</vt:lpwstr>
  </property>
  <property fmtid="{D5CDD505-2E9C-101B-9397-08002B2CF9AE}" pid="39" name="Version">
    <vt:r8>2</vt:r8>
  </property>
  <property fmtid="{D5CDD505-2E9C-101B-9397-08002B2CF9AE}" pid="40" name="display_urn:schemas-microsoft-com:office:office#APAuthor">
    <vt:lpwstr>REDMOND\cynvey</vt:lpwstr>
  </property>
  <property fmtid="{D5CDD505-2E9C-101B-9397-08002B2CF9AE}" pid="41" name="display_urn:schemas-microsoft-com:office:office#APEditor">
    <vt:lpwstr>REDMOND\v-luannv</vt:lpwstr>
  </property>
</Properties>
</file>